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EEC-F208-45A0-AE46-9D1515D7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966-FE0B-4BCE-897D-F68D295F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E58-D240-486A-B75F-5481ACB8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C211-3F95-4900-9304-982A4889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7ED-0920-454E-8E55-469C3A3B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C79F-BAC1-445D-BE81-50B5AE82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4DD-9D5D-4A56-BF54-D494C067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22A-66BB-48D9-804E-33716F7B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4C5-78D0-4A19-8018-152428D7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B3AD-071C-4961-BE0F-D6D6525A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337-38DC-484A-A004-33E44050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42B-2847-4E66-AEA3-34FE979C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CC26-8651-40BA-95CA-254F7F82B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4440" y="301680"/>
            <a:ext cx="9671040" cy="12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99ff"/>
                </a:solidFill>
                <a:latin typeface="Arial"/>
              </a:rPr>
              <a:t>The Writing Proc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8000" y="1738440"/>
            <a:ext cx="4832280" cy="55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Arial"/>
              </a:rPr>
              <a:t>Involves everyo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Arial"/>
              </a:rPr>
              <a:t>Produces many forms of wri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lo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xt messag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97600" y="1708200"/>
            <a:ext cx="486864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Arial"/>
              </a:rPr>
              <a:t>Derives inspiration from many sour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e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x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w haircu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60280" y="1858680"/>
            <a:ext cx="9452160" cy="52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wo strength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ne area to stregthe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3-4 minutes in length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249120" y="306360"/>
            <a:ext cx="9661680" cy="12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99ff"/>
                </a:solidFill>
                <a:latin typeface="Arial"/>
              </a:rPr>
              <a:t>Writing Conferen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0520" y="1812600"/>
            <a:ext cx="9475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Do NOT </a:t>
            </a:r>
            <a:r>
              <a:rPr b="0" lang="en-US" sz="8500" spc="-1" strike="noStrike">
                <a:solidFill>
                  <a:srgbClr val="cc0000"/>
                </a:solidFill>
                <a:latin typeface="Arial"/>
              </a:rPr>
              <a:t>edit</a:t>
            </a: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 during </a:t>
            </a:r>
            <a:r>
              <a:rPr b="0" lang="en-US" sz="8500" spc="-1" strike="noStrike">
                <a:solidFill>
                  <a:srgbClr val="0b5394"/>
                </a:solidFill>
                <a:latin typeface="Arial"/>
              </a:rPr>
              <a:t>revision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